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726-C579-4619-ABF4-90FE3430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29A-A52D-4586-87E0-B305B0A6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444-1ADA-4DE7-8405-D2216B8C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5C0-7E41-4C5B-A191-6349AEA4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0D3-F40E-4085-9D9D-4E670851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754-8869-4E08-BCF8-2778BB00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9F1-BA04-4457-8753-931A7117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A07-7E27-47C0-9CE1-D687FEA6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BE7-8883-44C1-AFA2-31C1F107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CA7-A55F-4C60-BFD9-D79B172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D86-658E-4F76-9EC9-F3BABBA9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0BD-81BA-45BB-8711-0CBB4292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6190-22E8-4950-A101-4459DBA8A90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Earthquake In A MED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Japan, 19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earthquake occurred at 5.46am on the 17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January 199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measured 7.2 on the Richter Scale and lasted 20 seco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obe lies on th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Noji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ault, a destructive boundary, where the Philippine plate dives below the Eurasian plat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plate boundary is the reason for Japan's existence but also means that there is a constant earthquake threa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obe was unlucky in the sense that the focus of the earthquake was very close to the surface and the epicentre was right beside the ci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im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d a death toll of approximately 5,500, with another 30,000 injured and 250,000 made homel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100,000 buildings collap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 damage included a 1km stretch of elevated road, numerous railway bridges, and 120 of the city's 150 qu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d the fact that electricity, gas, water and sewage systems were all hugely disru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cy services found it very difficult to get into the city due to the massive destruction of the roa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temporary shelters were required, as well as food and medici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weather meant that diseases spread quick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eek after the earthquake fires still were burning, 2 million homes still were without power and 1 million were without w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es destroyed over 7,000 more hom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dreds of aftershocks, 74 strong enough for people to feel, meant people were too afraid to return to their homes for weeks after the ev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gh new laws, building codes and emergency plans were brought in after criticism of the Japanese Gover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is continuing to try to predict future earthquakes, but as yet there is very little way of giving any significant warni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4:09:42Z</dcterms:created>
  <dc:creator>Dell_02</dc:creator>
  <dc:description/>
  <dc:language>en-US</dc:language>
  <cp:lastModifiedBy>Dell_02</cp:lastModifiedBy>
  <dcterms:modified xsi:type="dcterms:W3CDTF">2011-01-26T14:19:01Z</dcterms:modified>
  <cp:revision>1</cp:revision>
  <dc:subject/>
  <dc:title>Earthquake In A MEDC</dc:title>
</cp:coreProperties>
</file>